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E2AB-97F9-46BE-8E7A-034B9FE2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2CCD-52D4-4EC6-A393-4EADC27D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5C7A-D6DE-4F34-9839-0DDF3724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9DEF-C3DC-415A-87F6-1B463C34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937-ABF1-4F7E-94C9-214612DE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5855-5440-4CF0-9C40-C54E82DB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AB80-DA70-467A-8F75-D5020F40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2DE7-353B-49F2-AD5E-244F1B21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33D5-2925-4D99-8F71-C94D7DD1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25EE-1D81-499A-AB6C-B06F4626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936B-C699-4E39-910B-D19F6465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C118-AFE0-4083-AE1A-30E8BF3F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5C81-B913-4C68-A24A-37EEEEFDC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859240YIZAAgwxQ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1280" y="2057400"/>
            <a:ext cx="64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richer than 75% of this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3366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have food in the refrigerator,  clothes on your back, a roof overhead and a place to sleep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6695210lkyBoAfOHv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762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Have a good day, count your blessing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and pass this along to remind everyone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how blessed we all a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31240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ish you a holy happy Christma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6694789DCxkenpKXn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4880" y="5029200"/>
            <a:ext cx="85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among the top 8%  of the world's wealt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289548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have money in the bank, in your wallet, and spare change in a dish some place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6695026qjUlFEoDK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343400" y="1600200"/>
            <a:ext cx="450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more blessed than the million who will not survive this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45720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woke up this morning with more health than illnes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6793365FabZdmYCCF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9480" y="5562720"/>
            <a:ext cx="833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ahead of 500 million people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380880"/>
            <a:ext cx="624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have never experienced the danger of battle, the loneliness of imprisonment, the agony of torture, or the pangs of starvatio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6695245LzskAPqpjQ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71800" y="289548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more blessed than three billion people in the worl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can attend a church meeting without fear of harassment, arrest, torture, or death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6694891lLxigTZtRh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4200" y="160020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very rare, even  in the United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286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r parents are still alive and still married ..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6694676DHnqOTFmA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25146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blessed because the majority can, but most do not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28600"/>
            <a:ext cx="533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hold up your head with a smile on your face and are truly thankful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6694870FMAHBPoLnl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47920" y="32767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blessed because you can offer healing touch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57200"/>
            <a:ext cx="594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can hold someone's hand, hug them or even touch them on the shoulder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6695357mrEHfOEGew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0492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can read this message, you just received a double blessing that someone was thinking of you, and furthermore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26668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more blessed than over two billion people in the world that cannot read at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06:32:35Z</dcterms:created>
  <dc:creator>Peggy Pan</dc:creator>
  <dc:description/>
  <dc:language>en-US</dc:language>
  <cp:lastModifiedBy>Peggy Pan</cp:lastModifiedBy>
  <dcterms:modified xsi:type="dcterms:W3CDTF">2000-12-13T08:01:14Z</dcterms:modified>
  <cp:revision>7</cp:revision>
  <dc:subject/>
  <dc:title>没有幻灯片标题</dc:title>
</cp:coreProperties>
</file>