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303-565C-4004-B83C-0FF281D3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277-20E8-4960-A749-54121DA5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171-09BA-477B-BAF8-E4BBEA25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615-EF8C-41DD-B27E-31813ADC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810-41F9-40BA-964E-80D8F83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4D9-F5E9-49F7-98EC-F08334B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D30-8274-49DF-AEA4-ADEF5D8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5C6-3D46-4667-953C-170C438F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B44-B506-4E80-BDCD-92B17030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876-29DE-4DED-A8C6-B6614BF8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6A5-4B8A-455F-9B69-CBF5908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E3A-BCA4-44D6-AEE6-EA98DF3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83B-8B35-4ADA-B9E2-6B0716476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1280" y="2057400"/>
            <a:ext cx="64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695210lkyBoAfOHv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1240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ish you a holy happy Christm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4880" y="5029200"/>
            <a:ext cx="85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895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3400" y="1600200"/>
            <a:ext cx="450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57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9480" y="556272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8088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28954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4200" y="160020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2514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2860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694870FMAHBPoLnl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3276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72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695357mrEHfOEGew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6668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Peggy Pan</cp:lastModifiedBy>
  <dcterms:modified xsi:type="dcterms:W3CDTF">2000-12-13T08:01:14Z</dcterms:modified>
  <cp:revision>7</cp:revision>
  <dc:subject/>
  <dc:title>没有幻灯片标题</dc:title>
</cp:coreProperties>
</file>