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BCB-8282-428A-A0D7-06010E61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CE6-6055-4A3D-B672-F36C1BC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9E5-672A-4B7F-80AB-798EFCAE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04B-83FA-4D8D-AF41-76A3DFCF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CE7-C18C-450C-BBCB-155DDF9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FB9-9DB1-4EAB-9A5D-4C184AA3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D3C-D06D-457D-83F7-6BE30EC0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35A-7310-495D-8F09-49866F1B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178-3F27-409B-876A-7917979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555-1504-438A-8B48-5423F4A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6DF-2156-4E8D-9CBD-357B911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368-07E4-4AAB-9BE1-094231D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3B9-F43D-4C05-AE79-83CE0B914CF5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ere is an interesting and lovely way to look at the beauty of mathematics, and of God, the sum of all wond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N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, look how far the love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God will take yo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-O-V-E-O-F-G-O-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+15+22+5+15+6+7+15+4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It’s the Love of God that will put you over the top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571680" y="13572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and that God bless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´Diramar.jpg"/>
          <p:cNvPicPr/>
          <p:nvPr/>
        </p:nvPicPr>
        <p:blipFill>
          <a:blip r:embed="rId1"/>
          <a:stretch/>
        </p:blipFill>
        <p:spPr>
          <a:xfrm>
            <a:off x="6000840" y="3786120"/>
            <a:ext cx="2771640" cy="279072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5"/>
          <p:cNvSpPr/>
          <p:nvPr/>
        </p:nvSpPr>
        <p:spPr>
          <a:xfrm>
            <a:off x="214200" y="4357800"/>
            <a:ext cx="5286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Dira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setembro,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slideshare.net/Diram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pdmfedc.multipl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m 22" descr="brasil28.gif"/>
          <p:cNvPicPr/>
          <p:nvPr/>
        </p:nvPicPr>
        <p:blipFill>
          <a:blip r:embed="rId2"/>
          <a:stretch/>
        </p:blipFill>
        <p:spPr>
          <a:xfrm rot="19519800">
            <a:off x="1917360" y="4265280"/>
            <a:ext cx="547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11"/>
          <p:cNvSpPr/>
          <p:nvPr/>
        </p:nvSpPr>
        <p:spPr>
          <a:xfrm>
            <a:off x="292896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(Internet  sear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 wonder about those people who say they are giving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l been in situations where someone wants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IVE OVER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1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06:54Z</dcterms:created>
  <dc:creator/>
  <dc:description/>
  <cp:keywords/>
  <dc:language>en-US</dc:language>
  <cp:lastModifiedBy/>
  <dcterms:modified xsi:type="dcterms:W3CDTF">2008-11-11T18:21:40Z</dcterms:modified>
  <cp:revision>29</cp:revision>
  <dc:subject/>
  <dc:title> </dc:title>
</cp:coreProperties>
</file>