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10AB-B506-4A33-8A45-569FB8FD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9BDB-6D5E-4BF4-8BC1-EFB8B0F4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479E-CF18-445C-91FD-B91384AA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2AD3-B5F0-4AF9-A835-D61ECE8F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C61-EAC9-472D-99DC-E3E74882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D0F-7965-484B-AAA1-61B400F0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C4BB-B957-4669-BC6F-D2C48B1F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5CA0-58FF-44D8-BC24-B7EC85F5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EDD5-7381-42D3-B24F-405CF0E5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9A7-1D71-461C-9210-498DAB80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D9C5-52C3-4FD1-B949-0E9EEA15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0DD-8F74-413E-A164-D4FBE565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5B5D-F122-47DE-8FD2-3AE77A78B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859240YIZAAgwxQ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1280" y="2057400"/>
            <a:ext cx="64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richer than 75% of this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3366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have food in the refrigerator,  clothes on your back, a roof overhead and a place to sleep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6695210lkyBoAfOHv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762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Have a good day, count your blessing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and pass this along to remind everyone 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how blessed we all a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31240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ish you a holy happy Christma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6694789DCxkenpKXn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4880" y="5029200"/>
            <a:ext cx="85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among the top 8%  of the world's wealt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289548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have money in the bank, in your wallet, and spare change in a dish some place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6695026qjUlFEoDK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343400" y="1600200"/>
            <a:ext cx="450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more blessed than the million who will not survive this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45720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woke up this morning with more health than illnes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6793365FabZdmYCCF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9480" y="5562720"/>
            <a:ext cx="833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ahead of 500 million people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380880"/>
            <a:ext cx="624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have never experienced the danger of battle, the loneliness of imprisonment, the agony of torture, or the pangs of starvatio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6695245LzskAPqpjQ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71800" y="289548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more blessed than three billion people in the worl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can attend a church meeting without fear of harassment, arrest, torture, or death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6694891lLxigTZtRh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4200" y="160020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very rare, even  in the United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286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r parents are still alive and still married ..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6694676DHnqOTFmAp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25146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blessed because the majority can, but most do not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28600"/>
            <a:ext cx="533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hold up your head with a smile on your face and are truly thankful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6694870FMAHBPoLnl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47920" y="32767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blessed because you can offer healing touch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57200"/>
            <a:ext cx="594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can hold someone's hand, hug them or even touch them on the shoulder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6695357mrEHfOEGew_ph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30492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you can read this message, you just received a double blessing that someone was thinking of you, and furthermore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26668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re more blessed than over two billion people in the world that cannot read at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06:32:35Z</dcterms:created>
  <dc:creator>Peggy Pan</dc:creator>
  <dc:description/>
  <dc:language>en-US</dc:language>
  <cp:lastModifiedBy>Peggy Pan</cp:lastModifiedBy>
  <dcterms:modified xsi:type="dcterms:W3CDTF">2000-12-13T08:01:14Z</dcterms:modified>
  <cp:revision>7</cp:revision>
  <dc:subject/>
  <dc:title>没有幻灯片标题</dc:title>
</cp:coreProperties>
</file>