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524-2436-4903-8D36-0F78C305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B1C-4399-44C6-9A88-94FDB974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F6C-3860-4057-862B-F6783C72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DC2-F375-44CA-92D3-20AAC751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809-02B9-4D8E-BAB7-7AB15C1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0FE-7DE5-4BF3-B58A-15F371D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1A8-4EDF-4196-962C-6D290C52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92A-42E1-4E5E-B0FC-67D22753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5E1-7606-4233-BAA9-DF3E151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F91-BF00-4E36-80E3-4BE8E811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F74-9A24-4AD7-B234-7191B4F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06D-AA5C-4BA1-B700-BA20EA4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6213-0524-40DD-B755-B1BD9925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1280" y="205740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695210lkyBoAfOHv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124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sh you a holy happy Christm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4880" y="502920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895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3400" y="1600200"/>
            <a:ext cx="450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9480" y="556272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8088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28954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4200" y="160020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2514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2860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694870FMAHBPoLnl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3276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72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695357mrEHfOEGew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6668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Peggy Pan</cp:lastModifiedBy>
  <dcterms:modified xsi:type="dcterms:W3CDTF">2000-12-13T08:01:14Z</dcterms:modified>
  <cp:revision>7</cp:revision>
  <dc:subject/>
  <dc:title>没有幻灯片标题</dc:title>
</cp:coreProperties>
</file>